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254-95EB-43DC-9008-4E513E8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BD9-5D7C-4B00-A7F6-4A46ADA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B35-78A9-49F5-97FB-BEA6FB44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47-1B14-4D44-8F02-58F991A9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5DC-4272-4125-97A2-929F10F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09A-9B68-4B41-B708-737F373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553-9021-402D-A1BB-F1D9ECD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E17-52AF-41A8-8A68-7F54865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9A7-BBD3-4646-A5AF-3F31589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3A9-1448-4162-9304-212F12C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403-E4FB-47A7-B72A-DA02CBD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E17-CAC3-4B4B-94FC-41D6293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125-C397-4F2D-BDC2-ECB3DF0E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"/>
              </a:rPr>
              <a:t>This Place Ma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: David Tay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ique"/>
              </a:rPr>
              <a:t>The Nashville Court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shville Court House Is Historical place in Nashville history. It is located on  234 W Washington St. Nashville,NC 27856. This place matters because it wasn’t the first court house built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324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"/>
              </a:rPr>
              <a:t>The Imperia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erial Center matters because it used to be The Imperial tobacco Company and now is a science and art museum in rocky mount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s also occupying the space of the old Braswell Memori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891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ique"/>
              </a:rPr>
              <a:t>The Nashville Art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shville Art center matters because it used to be a Baptist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79936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h Arts is housed in The Nash Arts Center, a former Baptist Church built in 1914, that was slated to be demolished and m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a parking lot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18:40Z</dcterms:created>
  <dc:creator>NRMS</dc:creator>
  <dc:description/>
  <dc:language>en-US</dc:language>
  <cp:lastModifiedBy>NRMS</cp:lastModifiedBy>
  <dcterms:modified xsi:type="dcterms:W3CDTF">2011-04-14T16:23:27Z</dcterms:modified>
  <cp:revision>5</cp:revision>
  <dc:subject/>
  <dc:title>This Place Matters</dc:title>
</cp:coreProperties>
</file>